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6478-2529-4937-974C-A9F8A927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AE4E-FC5B-4919-8DCE-D24E0288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36AB73-F7DE-4477-896E-E51E248F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52A672-3090-4DF0-888E-45B62943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BEF304-E4CF-400E-B320-64E78AA9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14FF35-68D7-40B9-9C50-5BA5F148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F10804-8FAA-444A-8E9F-E97D9A55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3CD972-A17B-46B8-86A9-5A0B3281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4D6895-91EA-485C-BE8E-159B9EBA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4DD72A-A9CA-47E3-B6AD-FF78A7B4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DEF05-47C9-4D9C-8C77-0695517D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925BF-FF81-44BA-9F79-28FA30A3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4D0-AE04-4450-9CD5-A9A78DE9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29905-89DF-4195-BFB5-244C4F63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5D392-77AA-4840-B682-71C1D8C7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BE3DD-2B03-45E8-B886-89DF90A1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F2F6F-A7E5-421E-991C-1D72BA93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94A2E-5B1F-4E42-9ED9-21B7A3AA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2E4A8-99AC-4B57-BEC6-7B90D3CB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7F938-CFEC-4C32-988E-DFB2CB5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47241-4081-44CE-892D-0567445F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A545B-910F-4900-91EA-CE7440BB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1BBC9-309F-41AB-A132-9B6981BF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31CA-5EE2-4DD4-B04A-31959071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5AEFC-0158-406C-A0E2-76D9541D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E4433-5D7B-43DF-863B-721F36D8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BC261-607F-4104-A9E2-78A94195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9041D-8A1B-411C-ADEB-CFC56B11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578D1-C360-4F5F-A07A-0D382DE0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01D2B-EFE6-43AA-A8C6-FF1F73A2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A8C80-EF34-4C1D-905E-ECF25CBA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21801-5805-4C6E-95EE-BF9DE134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24756-CB96-4096-9111-43DC8775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B0D87-C4CE-4400-AF05-0FE74FC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6C3F-ABE8-44DA-8F80-4E1C2E3A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33408-6BB7-4DBA-8A50-292A6750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65E92-4B51-43E6-A142-66549400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5F43A-1AFE-434B-B0D1-2CE80B2B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9D69F-8AB9-45DC-BD87-5C32296D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BDEA5-0D91-4D99-B577-F9FFE0F0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695FC-A65E-4ED1-942A-20FBCE88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4DE53-4037-491C-A6E3-995DC4D4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BE3BA-6E61-4DDC-8564-659F6996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D748F-ADE4-4ED2-9DD3-06BE7F27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DB7BEA-20B3-48A9-A86F-BA74FC8A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BEA3-EC90-4310-A4E6-D09E6A83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B4AF5-B335-4944-BC4D-A45550A2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9A65B-C0F7-4FB1-A38A-748D31ED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1E36A-205D-425D-B5F3-51869184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B0AD0-218D-4A0B-8DAA-397E553A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6D44B-DB8F-40D3-A1C3-C57AB2A5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5D0EF-D000-407B-A975-0FB23FE0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E15F07-2CE1-4A92-A208-BB35EB1E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C9D5C-41D1-4E92-A006-5B2B01F7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5A5DD-98FA-4A42-9D56-570C6023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676FF-D20C-4F1C-94C1-F7901757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3297-E618-4487-809E-164FDEBD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1B61C-A3D8-40D9-BEC6-434316AC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88C9F-03A7-40B6-9ABE-1F5D40CF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ABFEE-CA88-47BD-9D64-4C2DF9F9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E08B3-FCD7-4262-B44F-00877A6B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86362-513C-41B0-B19A-ADA5256B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0748A-4B83-4606-9D9D-8F04FF5F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C1771-5CAC-4AAB-8385-A5D562EA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49A73B-1813-4DD7-BE18-405C7E94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CB2253-04D7-49F6-B06A-57525022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BE3C3-6AB9-4B64-B8CC-B44096AF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1312B-F209-4527-BFA9-E1A29D12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D1465-DEB2-4AF5-9D80-2615E970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4BB10-4A9A-4AD7-B42B-02D70935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90086-5DA0-4786-A0BA-893D6F35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38A71-AFBE-472A-AADF-699E301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A9F70-E195-4DA1-8DE5-FCDCC6FA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6FEB16-7F08-4915-BD21-72CFB3C2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10C8C-AB91-467F-AF82-E3F73DAB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2FDE2A-CB4C-4E39-A741-37C95C41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C86742-2851-41E7-9C8E-AD64BFC00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FFA518-5292-47C7-B7F6-4D971A8D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DC44-9F0A-407D-BE59-9666423A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C327D7-E8E6-46E5-B6E2-F4F6E6D1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81391-7585-43D1-82AD-3DA28B11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B7551-B835-4F94-A03D-4282AC52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D4D63E-24D3-4253-BDC8-98B25E2F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120EB-E939-4609-A2A4-789BCA6C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03045-5BEA-4093-8105-27EF28B9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6B4B0C-6560-48EC-9681-C8250C3E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070BA-1423-44C8-A811-D6FED66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15EF7-903F-425A-8AF8-91B1D94F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65C32-CD2A-4DEA-9162-A37D5D5B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ABB0-3F9F-4E44-B754-7EC2DE9F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EDEF7-FC1B-4DF1-8FAE-BF2D6625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A275C-49B1-4C2E-AABC-7E39C287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0F194-00DB-4F69-974A-FE8A02B8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EE7C6-7DE7-4483-93FF-16E7F9D0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3909FF-AAA8-4D56-A93A-CC4F9AEB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9B00F7-183E-4B35-8EB1-6EA8A1DB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D1E7E4-09BF-40FF-9FF2-ED606931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BF2E0F-5090-4DF3-B253-48D62AA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842E1-B4BE-4489-BF2D-E9F2BD66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30DBD-A895-4D69-831E-46B190F6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9A4C-635F-4509-AB69-8A26AF15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E2D34E-0655-4BFF-AD58-1B380796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3A499-3C9D-4BEE-95B8-6117A465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2A663D-2A6C-4891-B095-D5C407C3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ABD8-B116-4E7B-93E9-2712096A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C2F3-B7D7-493D-A420-7527D27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C151-F83A-4BBA-BA84-BC2B6ABD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0720-5CDB-4550-9E5C-452175C0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2ABB-4027-4033-B716-856D144F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8385-540E-43EC-8F47-7D2EF51F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C2ACA-D2EA-4998-84A7-F44FD3EC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AA2C8-9D77-4061-BDDD-AE65589D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99B5-37CC-4B09-A85B-38C000F7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41950-BBC9-4D58-AE0F-A0FE8B85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A45FF-B696-4EF8-836E-75C0F0AA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B1B5-7C59-4163-A1E6-9EC62DF0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CD3FD-7966-44C0-8AFF-CAC109B4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DEEBE-6F7A-42EA-878F-8E6513BF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CD29B-4DB7-4D63-B3B3-EF414BBF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C6EE-2CB5-4F14-AF58-439075A4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4D49-80AB-4E5C-96AB-072FC9A2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6BD4-C60D-4A3B-A2FA-6C704549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93E79-7D75-4EEB-A1EB-1D4B4BC1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1E3EE-32D3-41F4-BFE3-97346184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D342F-FB15-4BA9-BE04-18A4C62F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9F123-C69C-4637-AD4C-F44EDB82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75BF-F89F-49AD-B2D9-4BAB2F34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2D87E6-0994-49F4-9282-9EBE2F02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23E935-A594-4D26-B7D8-4DA3D09C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E2CED-A518-4878-856C-FC8E1FEA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B14C8-0450-4100-AFEC-3DDD89C2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204E81-B5E7-4B5F-AD45-F6A7ED5E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96C23-2779-4838-90D1-DECCADA9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EBC62-D13B-49F8-BAD1-2C6AE56C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1F6815-1D3D-4013-8A0C-2D8C785F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8069CD-CD64-45C3-8C4F-A5C45BB8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E91E9-9F97-4417-BD7A-67D9E501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C3BB-7B00-49EB-9F31-EABD4EF3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720E8-5146-409F-84B7-1F46490F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59DBF-7536-4725-91B6-273A70CC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EC671-5CA3-4A1E-A044-8B4400F8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0F229-8B68-4908-9613-01EAA5B7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CACC1-6E0C-493F-A46D-24AE79BB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38C99-DF5B-41C5-906B-4F8FB115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F3858-ADEC-4FBA-BCD1-1DE9F9F5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2256A-37E7-4B70-A733-C96375BB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B1D17-CF5C-4F6D-8077-2599159B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20FBE-FAE9-48D2-BC2C-F8F42885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E37C-E1FC-4FC3-8327-4D719A89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C6190-AA86-483E-BB1E-5A98C571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63BCA-5C33-4DC9-8C8B-2F5CFE46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3600C-9853-4211-8D9E-0387690A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66CD7-5E02-4E2D-9B9E-EA68C25E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5CE8E-59FF-4263-8655-44BBA29F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327E0-855A-4D07-B070-4FBC94F0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0B5A2-082E-40CB-BCE9-EDE11FB0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320A8-07C0-48D8-9DD4-181F79D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31626-8F44-47E2-9610-1ECF7A95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BA9A3-EAE8-41E8-9BFC-0E0229EB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95B9-33DF-4387-B218-6C0296CB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F61AF-A507-42BD-BE5A-18953C55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100AD-5FDB-4068-98E9-6E3EED5F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FE70B-328A-4392-87A9-290FA9DD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607EB-2905-4554-AAEF-3AA5E0EB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FCFEC-404A-4E2A-94B2-50605C7C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386C4-D9A0-48FF-AB71-F56F6CAC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08BA0-EB13-42BF-9E2F-923C2FBF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D5A71-508C-4028-86AA-6E60782B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AAC17-BF8B-470A-95B3-3CD27A05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AD617-2EA2-48E2-9B75-D1832080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2A69-F2CC-4F4D-B6DD-DCAE4D72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08680-6098-455E-A3EE-7AA53BFD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4A686-A3A5-408E-B627-3772B04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0BB76-4719-4954-A88C-C5FD6078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A70EF-8F77-4069-8B99-EF5F070D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72B9D-0C4D-4D15-ACB7-049C9447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174EC-EE71-46E7-BC43-1CE13FED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09F60-561A-4D5F-9214-9331E34A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1BC97-286F-460E-8898-FC543F0A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85BE9-2045-4A3D-8F76-6AF3E799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95AC7-7324-4D45-971E-42E140AF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E45-0168-403C-9102-1EB640C5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D8539-584A-4D90-8CC3-CD954393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C03FE-1610-4E29-AF0C-BA2CD997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CFFC2-D7B2-4A87-8FCD-64176525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0B0B0-19E7-4DC1-A8CD-491EF3EB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1E7E3-2962-4FA0-9C91-721A7E90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EE179-65A5-44AA-BC88-F4AF02FF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1A5DBE-EE5B-4FB4-8904-C6ACC16F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72DCBB-B359-4FC4-A700-5BC16023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7ADFC4-3B9C-4890-89E9-0D2262D4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6DE4AF-F0A7-42C9-AE1E-1A9CF617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69.xml"/><Relationship Id="rId35" Type="http://schemas.openxmlformats.org/officeDocument/2006/relationships/slideLayout" Target="../slideLayouts/slideLayout170.xml"/><Relationship Id="rId36" Type="http://schemas.openxmlformats.org/officeDocument/2006/relationships/slideLayout" Target="../slideLayouts/slideLayout171.xml"/><Relationship Id="rId37" Type="http://schemas.openxmlformats.org/officeDocument/2006/relationships/slideLayout" Target="../slideLayouts/slideLayout172.xml"/><Relationship Id="rId38" Type="http://schemas.openxmlformats.org/officeDocument/2006/relationships/slideLayout" Target="../slideLayouts/slideLayout173.xml"/><Relationship Id="rId39" Type="http://schemas.openxmlformats.org/officeDocument/2006/relationships/slideLayout" Target="../slideLayouts/slideLayout174.xml"/><Relationship Id="rId40" Type="http://schemas.openxmlformats.org/officeDocument/2006/relationships/slideLayout" Target="../slideLayouts/slideLayout175.xml"/><Relationship Id="rId41" Type="http://schemas.openxmlformats.org/officeDocument/2006/relationships/slideLayout" Target="../slideLayouts/slideLayout176.xml"/><Relationship Id="rId42" Type="http://schemas.openxmlformats.org/officeDocument/2006/relationships/slideLayout" Target="../slideLayouts/slideLayout177.xml"/><Relationship Id="rId43" Type="http://schemas.openxmlformats.org/officeDocument/2006/relationships/slideLayout" Target="../slideLayouts/slideLayout178.xml"/><Relationship Id="rId44" Type="http://schemas.openxmlformats.org/officeDocument/2006/relationships/slideLayout" Target="../slideLayouts/slideLayout179.xml"/><Relationship Id="rId4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81.xml"/><Relationship Id="rId32" Type="http://schemas.openxmlformats.org/officeDocument/2006/relationships/slideLayout" Target="../slideLayouts/slideLayout182.xml"/><Relationship Id="rId33" Type="http://schemas.openxmlformats.org/officeDocument/2006/relationships/slideLayout" Target="../slideLayouts/slideLayout183.xml"/><Relationship Id="rId34" Type="http://schemas.openxmlformats.org/officeDocument/2006/relationships/slideLayout" Target="../slideLayouts/slideLayout184.xml"/><Relationship Id="rId35" Type="http://schemas.openxmlformats.org/officeDocument/2006/relationships/slideLayout" Target="../slideLayouts/slideLayout185.xml"/><Relationship Id="rId36" Type="http://schemas.openxmlformats.org/officeDocument/2006/relationships/slideLayout" Target="../slideLayouts/slideLayout186.xml"/><Relationship Id="rId37" Type="http://schemas.openxmlformats.org/officeDocument/2006/relationships/slideLayout" Target="../slideLayouts/slideLayout187.xml"/><Relationship Id="rId38" Type="http://schemas.openxmlformats.org/officeDocument/2006/relationships/slideLayout" Target="../slideLayouts/slideLayout188.xml"/><Relationship Id="rId39" Type="http://schemas.openxmlformats.org/officeDocument/2006/relationships/slideLayout" Target="../slideLayouts/slideLayout189.xml"/><Relationship Id="rId40" Type="http://schemas.openxmlformats.org/officeDocument/2006/relationships/slideLayout" Target="../slideLayouts/slideLayout190.xml"/><Relationship Id="rId41" Type="http://schemas.openxmlformats.org/officeDocument/2006/relationships/slideLayout" Target="../slideLayouts/slideLayout191.xml"/><Relationship Id="rId42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9EF6-90C2-482D-8DA9-15B0185127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3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AB21-FF6A-43B8-BA65-059D530885B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797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05" name="PlaceHolder 1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BCF5-7111-4DF5-A5A2-E0AF99A4A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847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8EEC-9EFE-4A87-8DA5-D912D2907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3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94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3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3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A6C6-755F-485D-9457-876ADE961C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8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39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dt" idx="4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ftr" idx="4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4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B016-FC7C-47BE-BD0B-E48480C0F4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83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986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987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988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990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2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9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9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3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4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5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06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07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8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9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0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2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3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0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1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2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3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4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5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26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6ACA-D741-4236-9FAC-21212801998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4"/>
    <p:sldLayoutId id="2147483832" r:id="rId35"/>
    <p:sldLayoutId id="2147483833" r:id="rId36"/>
    <p:sldLayoutId id="2147483834" r:id="rId37"/>
    <p:sldLayoutId id="2147483835" r:id="rId38"/>
    <p:sldLayoutId id="2147483836" r:id="rId39"/>
    <p:sldLayoutId id="2147483837" r:id="rId40"/>
    <p:sldLayoutId id="2147483838" r:id="rId41"/>
    <p:sldLayoutId id="2147483839" r:id="rId42"/>
    <p:sldLayoutId id="2147483840" r:id="rId43"/>
    <p:sldLayoutId id="2147483841" r:id="rId44"/>
    <p:sldLayoutId id="2147483842" r:id="rId4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79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83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84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8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0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102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103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7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8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9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0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1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2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3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4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5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6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7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8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19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0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21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22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dt" idx="4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4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sldNum" idx="4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DCDA-EF2C-4994-BCA9-2252BE8B00F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1"/>
    <p:sldLayoutId id="2147483845" r:id="rId32"/>
    <p:sldLayoutId id="2147483846" r:id="rId33"/>
    <p:sldLayoutId id="2147483847" r:id="rId34"/>
    <p:sldLayoutId id="2147483848" r:id="rId35"/>
    <p:sldLayoutId id="2147483849" r:id="rId36"/>
    <p:sldLayoutId id="2147483850" r:id="rId37"/>
    <p:sldLayoutId id="2147483851" r:id="rId38"/>
    <p:sldLayoutId id="2147483852" r:id="rId39"/>
    <p:sldLayoutId id="2147483853" r:id="rId40"/>
    <p:sldLayoutId id="2147483854" r:id="rId41"/>
    <p:sldLayoutId id="2147483855" r:id="rId4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7746-D100-4480-B41F-11FFC4AA0A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19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21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2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A389-2432-4F9E-9456-EF729D9AB6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76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0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82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8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F29B-5EDD-40A4-A354-089145742D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3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FF6B-79D0-4C03-A86B-733F1488D3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8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98A4-530D-4984-952C-745B1AB6FC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2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2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2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grpSp>
              <p:nvGrpSpPr>
                <p:cNvPr id="40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3283-F39C-47E6-BAB1-41FD1913252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9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0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0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3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4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4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5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5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6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8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9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9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9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0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0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1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8F4E-4083-45FD-BC2A-8F9F279FC93C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7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B6F7-B976-4E3E-BB5A-987FE646583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dt" idx="2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jpeg"/><Relationship Id="rId3" Type="http://schemas.openxmlformats.org/officeDocument/2006/relationships/image" Target="../media/image2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2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image" Target="../media/image10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7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arthquakes and Faults</a:t>
            </a:r>
            <a:br>
              <a:rPr sz="5700"/>
            </a:b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By Kelly Thomas and Areli lopez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1"/>
          <a:stretch/>
        </p:blipFill>
        <p:spPr>
          <a:xfrm>
            <a:off x="685800" y="4419720"/>
            <a:ext cx="3048120" cy="2133360"/>
          </a:xfrm>
          <a:prstGeom prst="rect">
            <a:avLst/>
          </a:prstGeom>
          <a:ln w="0">
            <a:noFill/>
          </a:ln>
        </p:spPr>
      </p:pic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5257800" y="4419720"/>
            <a:ext cx="3048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view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t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ncli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earing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"/>
          <p:cNvSpPr/>
          <p:nvPr/>
        </p:nvSpPr>
        <p:spPr>
          <a:xfrm>
            <a:off x="2286000" y="19051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3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7315200" y="22096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2"/>
          <a:stretch/>
        </p:blipFill>
        <p:spPr>
          <a:xfrm>
            <a:off x="6400800" y="2895480"/>
            <a:ext cx="2057400" cy="2210040"/>
          </a:xfrm>
          <a:prstGeom prst="rect">
            <a:avLst/>
          </a:prstGeom>
          <a:ln w="0">
            <a:noFill/>
          </a:ln>
        </p:spPr>
      </p:pic>
      <p:sp>
        <p:nvSpPr>
          <p:cNvPr id="1236" name=""/>
          <p:cNvSpPr/>
          <p:nvPr/>
        </p:nvSpPr>
        <p:spPr>
          <a:xfrm>
            <a:off x="1523880" y="3276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743200" cy="2286000"/>
          </a:xfrm>
          <a:prstGeom prst="rect">
            <a:avLst/>
          </a:prstGeom>
          <a:ln w="0">
            <a:noFill/>
          </a:ln>
        </p:spPr>
      </p:pic>
      <p:sp>
        <p:nvSpPr>
          <p:cNvPr id="1238" name=""/>
          <p:cNvSpPr/>
          <p:nvPr/>
        </p:nvSpPr>
        <p:spPr>
          <a:xfrm>
            <a:off x="4952880" y="38862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39" name="" descr=""/>
          <p:cNvPicPr/>
          <p:nvPr/>
        </p:nvPicPr>
        <p:blipFill>
          <a:blip r:embed="rId4"/>
          <a:stretch/>
        </p:blipFill>
        <p:spPr>
          <a:xfrm>
            <a:off x="3581280" y="4343400"/>
            <a:ext cx="2590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eview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t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otwal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ging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faul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2743200" cy="236196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3200400" y="18288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6400800" y="2438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5" name="" descr=""/>
          <p:cNvPicPr/>
          <p:nvPr/>
        </p:nvPicPr>
        <p:blipFill>
          <a:blip r:embed="rId2"/>
          <a:stretch/>
        </p:blipFill>
        <p:spPr>
          <a:xfrm>
            <a:off x="4114800" y="41148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246" name=""/>
          <p:cNvSpPr/>
          <p:nvPr/>
        </p:nvSpPr>
        <p:spPr>
          <a:xfrm>
            <a:off x="3124080" y="4191120"/>
            <a:ext cx="60984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Key Term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mal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ging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ot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erse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ke/Slip 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46160" y="1600200"/>
            <a:ext cx="404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t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0" name="" descr=""/>
          <p:cNvPicPr/>
          <p:nvPr/>
        </p:nvPicPr>
        <p:blipFill>
          <a:blip r:embed="rId1"/>
          <a:stretch/>
        </p:blipFill>
        <p:spPr>
          <a:xfrm>
            <a:off x="3733920" y="34290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Types of stress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ress-a force that acts on rock to change its shape or volume.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Stress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ension-stress that stretches rock so that it becomes thinner in the middle. Tensio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183" name="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3657600" cy="2362320"/>
          </a:xfrm>
          <a:prstGeom prst="rect">
            <a:avLst/>
          </a:prstGeom>
          <a:ln w="0">
            <a:noFill/>
          </a:ln>
        </p:spPr>
      </p:pic>
      <p:sp>
        <p:nvSpPr>
          <p:cNvPr id="1184" name=""/>
          <p:cNvSpPr/>
          <p:nvPr/>
        </p:nvSpPr>
        <p:spPr>
          <a:xfrm>
            <a:off x="3200400" y="2895480"/>
            <a:ext cx="4572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505320" y="5257800"/>
            <a:ext cx="2286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3809880" y="4191120"/>
            <a:ext cx="38815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stress cont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ssion-stress that squeezes rock until it folds or brea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ea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9" name=""/>
          <p:cNvSpPr/>
          <p:nvPr/>
        </p:nvSpPr>
        <p:spPr>
          <a:xfrm>
            <a:off x="4724280" y="2971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2793960" cy="144756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1905120" y="3962520"/>
            <a:ext cx="121896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4114800" y="4038480"/>
            <a:ext cx="464832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ypes of Faul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ormal faul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verse faul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rike slip faul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5" name=""/>
          <p:cNvSpPr/>
          <p:nvPr/>
        </p:nvSpPr>
        <p:spPr>
          <a:xfrm>
            <a:off x="4191120" y="228600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6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1524240" cy="1336680"/>
          </a:xfrm>
          <a:prstGeom prst="rect">
            <a:avLst/>
          </a:prstGeom>
          <a:ln w="0">
            <a:noFill/>
          </a:ln>
        </p:spPr>
      </p:pic>
      <p:sp>
        <p:nvSpPr>
          <p:cNvPr id="1197" name=""/>
          <p:cNvSpPr/>
          <p:nvPr/>
        </p:nvSpPr>
        <p:spPr>
          <a:xfrm>
            <a:off x="4343400" y="3429000"/>
            <a:ext cx="457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2143080" cy="2117520"/>
          </a:xfrm>
          <a:prstGeom prst="rect">
            <a:avLst/>
          </a:prstGeom>
          <a:ln w="0">
            <a:noFill/>
          </a:ln>
        </p:spPr>
      </p:pic>
      <p:sp>
        <p:nvSpPr>
          <p:cNvPr id="1199" name=""/>
          <p:cNvSpPr/>
          <p:nvPr/>
        </p:nvSpPr>
        <p:spPr>
          <a:xfrm>
            <a:off x="3352680" y="4952880"/>
            <a:ext cx="0" cy="2286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3"/>
          <a:stretch/>
        </p:blipFill>
        <p:spPr>
          <a:xfrm>
            <a:off x="1676520" y="5334120"/>
            <a:ext cx="30146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ypes of wa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ging w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otwal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"/>
          <p:cNvSpPr/>
          <p:nvPr/>
        </p:nvSpPr>
        <p:spPr>
          <a:xfrm>
            <a:off x="3352680" y="19051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4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276360" cy="1790640"/>
          </a:xfrm>
          <a:prstGeom prst="rect">
            <a:avLst/>
          </a:prstGeom>
          <a:ln w="0">
            <a:noFill/>
          </a:ln>
        </p:spPr>
      </p:pic>
      <p:pic>
        <p:nvPicPr>
          <p:cNvPr id="1205" name="" descr=""/>
          <p:cNvPicPr/>
          <p:nvPr/>
        </p:nvPicPr>
        <p:blipFill>
          <a:blip r:embed="rId2"/>
          <a:stretch/>
        </p:blipFill>
        <p:spPr>
          <a:xfrm>
            <a:off x="3733920" y="3352680"/>
            <a:ext cx="3962160" cy="3048120"/>
          </a:xfrm>
          <a:prstGeom prst="rect">
            <a:avLst/>
          </a:prstGeom>
          <a:ln w="0">
            <a:noFill/>
          </a:ln>
        </p:spPr>
      </p:pic>
      <p:sp>
        <p:nvSpPr>
          <p:cNvPr id="1206" name=""/>
          <p:cNvSpPr/>
          <p:nvPr/>
        </p:nvSpPr>
        <p:spPr>
          <a:xfrm>
            <a:off x="2133720" y="3124080"/>
            <a:ext cx="1295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cli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c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c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vic.gsa.org.a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971800" y="2362320"/>
            <a:ext cx="6858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0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211" name=""/>
          <p:cNvSpPr/>
          <p:nvPr/>
        </p:nvSpPr>
        <p:spPr>
          <a:xfrm>
            <a:off x="2895480" y="46483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2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733560" cy="2286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/>
          <p:nvPr/>
        </p:nvSpPr>
        <p:spPr>
          <a:xfrm>
            <a:off x="2514600" y="63244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a plateau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latea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3505320" y="2057400"/>
            <a:ext cx="4572000" cy="3490920"/>
          </a:xfrm>
          <a:prstGeom prst="rect">
            <a:avLst/>
          </a:prstGeom>
          <a:ln w="0">
            <a:noFill/>
          </a:ln>
        </p:spPr>
      </p:pic>
      <p:sp>
        <p:nvSpPr>
          <p:cNvPr id="1217" name=""/>
          <p:cNvSpPr/>
          <p:nvPr/>
        </p:nvSpPr>
        <p:spPr>
          <a:xfrm>
            <a:off x="2209680" y="2286000"/>
            <a:ext cx="11430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ault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tre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lateau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nticline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ns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Review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220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1447920" cy="152388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2" name="" descr=""/>
          <p:cNvPicPr/>
          <p:nvPr/>
        </p:nvPicPr>
        <p:blipFill>
          <a:blip r:embed="rId2"/>
          <a:stretch/>
        </p:blipFill>
        <p:spPr>
          <a:xfrm>
            <a:off x="4952880" y="1295280"/>
            <a:ext cx="2857680" cy="1524240"/>
          </a:xfrm>
          <a:prstGeom prst="rect">
            <a:avLst/>
          </a:prstGeom>
          <a:ln w="0">
            <a:noFill/>
          </a:ln>
        </p:spPr>
      </p:pic>
      <p:sp>
        <p:nvSpPr>
          <p:cNvPr id="1223" name=""/>
          <p:cNvSpPr/>
          <p:nvPr/>
        </p:nvSpPr>
        <p:spPr>
          <a:xfrm>
            <a:off x="1295280" y="1828800"/>
            <a:ext cx="22860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752480" y="3733920"/>
            <a:ext cx="38124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5" name="" descr=""/>
          <p:cNvPicPr/>
          <p:nvPr/>
        </p:nvPicPr>
        <p:blipFill>
          <a:blip r:embed="rId3"/>
          <a:stretch/>
        </p:blipFill>
        <p:spPr>
          <a:xfrm>
            <a:off x="2286000" y="3124080"/>
            <a:ext cx="2133720" cy="1600200"/>
          </a:xfrm>
          <a:prstGeom prst="rect">
            <a:avLst/>
          </a:prstGeom>
          <a:ln w="0">
            <a:noFill/>
          </a:ln>
        </p:spPr>
      </p:pic>
      <p:sp>
        <p:nvSpPr>
          <p:cNvPr id="1226" name=""/>
          <p:cNvSpPr/>
          <p:nvPr/>
        </p:nvSpPr>
        <p:spPr>
          <a:xfrm>
            <a:off x="1905120" y="4876920"/>
            <a:ext cx="609480" cy="30456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4"/>
          <a:stretch/>
        </p:blipFill>
        <p:spPr>
          <a:xfrm>
            <a:off x="2666880" y="4952880"/>
            <a:ext cx="2048040" cy="190512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/>
          <p:nvPr/>
        </p:nvSpPr>
        <p:spPr>
          <a:xfrm>
            <a:off x="5867280" y="3886200"/>
            <a:ext cx="0" cy="76212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5"/>
          <a:stretch/>
        </p:blipFill>
        <p:spPr>
          <a:xfrm>
            <a:off x="5029200" y="4800600"/>
            <a:ext cx="25909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9:15:14Z</dcterms:created>
  <dc:creator>kellythomas</dc:creator>
  <dc:description/>
  <dc:language>en-US</dc:language>
  <cp:lastModifiedBy>kellythomas</cp:lastModifiedBy>
  <dcterms:modified xsi:type="dcterms:W3CDTF">2008-02-12T13:06:53Z</dcterms:modified>
  <cp:revision>19</cp:revision>
  <dc:subject/>
  <dc:title>Earthquakes and Faults </dc:title>
</cp:coreProperties>
</file>